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048D-A359-4073-9FA0-7F97F111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9480-ADC1-4C68-87D9-180A89FB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3F29-5900-45EE-B2F9-7845B654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0FF3-52D9-49DA-A254-DABBF64A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55EC-9F9C-4351-BAEC-45CA2D89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EF52-EFFC-4C6E-9B7D-16A1BDDB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14FC-9786-4148-A998-6932A570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AF9C-ACE4-4619-9C99-AD6B5A2E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EC7C-78F9-4120-83E3-7E8EA428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FF89-60C7-4734-B604-5CA42837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5DAF-2C0A-4AF7-86FB-FAC401CE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E7A1-E911-46A9-AF61-4192C9F2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00F3-1EA6-4513-92C2-E17F68CA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1181-E3FB-41BD-AE55-717FBDE6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5F9A-7BE8-416F-ADA2-7E8426E5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6A35-9DFF-4141-963C-CBA63DB3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FC3F-7A70-43C3-A57C-E60A0DB8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3FB80-A60B-4EBE-98DE-3ADF13D9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868B0-F4C4-4CD4-A13C-D7208990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623F1-FAED-4025-A315-3E7F42DD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E467D-A833-4692-AB20-7B5701BB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A29BF-3213-454D-BE33-83EC9109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0CF6-6136-4E95-BCEB-CB5DEA3E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B8E2C-9E34-402E-B162-1455B121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40C86-294E-44EC-BC17-7C6570F1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FA985-4B8E-4B68-9304-D4BFD6F2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5DE41-DA4D-4411-977B-4B99A00A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57C18-C257-4D23-AAFC-28D544DD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AC2ED-D3A4-4B51-8F33-3C202073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17486-3FF6-4D60-AC8D-AB91D815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DA56D-C8CE-4679-85D9-870B5534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F8F48-E5C1-492D-A953-2606DFFA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A2DB6-F995-493C-857A-1C6C0FD8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2509-445D-4E0B-80B7-74B9D6A4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DA1E4-C611-41E9-BBCE-D7488EA3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7B64B-D715-4BF8-AA86-DB8BACAF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5090F-7435-4E6A-B821-B4719B4C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19FDD-0C26-40D5-A685-E84E5F1E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682BC-91C6-443F-9712-96499DE9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6D037-C9F1-4B73-8887-C1446BBE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83399-F62C-418A-8188-74516CBE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60147-AB03-438E-857C-E3A852EA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13BAE-1738-4FCC-8D0E-BCEA1758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1A1B3-8F62-4F3A-B81D-5BED5B33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D648-27D6-4EDA-8100-09329C2D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59299-8F60-4E0A-8BCA-870A480D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D2EBF-6D49-4D1F-868E-C2998DA0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EE2DC-5842-4447-81C1-34374BA2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D42A9-CE5D-451E-BB1C-02AE5750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4294C-3077-491E-B54E-A5810F62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B257C-CD42-4E63-8044-4193A66A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4B385-9A15-415E-B55A-B71ACBED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DB443-7987-487A-8D8B-9ADCFE6F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93EF6-10F2-4273-B486-7B435AD1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F026D-AFB5-4B79-B005-C5F8F4FF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5B8-AFE3-43F9-AF05-21C35A0E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96075-28F0-4781-B4C4-C5390F8A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3ED33-0BF3-4D29-B9F7-2C32F37B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4CAF1-4A0F-48EA-AFB1-6863166D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3CDBB-7597-4342-B4D1-6DFD08E3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7F115-C72C-4A4B-BCAE-58B0C26F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8B142-9624-4A67-8DC8-C0A4C47A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2DDE9-B499-499B-915D-757DFA00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79AE1-112C-4A6D-932B-C6E302E5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ACDF9-B5E0-45CA-AFF1-454A087D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5AFEA-5B2B-4EBF-B206-7C4CCA76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CB7E-AE57-47F4-B621-16BD3911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BB956-DBE8-4F12-950C-39FBF2CA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FCFED-8F62-442E-B180-90FE92E6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00F5C-084B-499A-B4EE-3B8B38E4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FB3F1-F868-48D1-9950-EF5BC3B2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F603D-D9D8-4B79-BF5B-8034E298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A5B35-3167-4DCF-82A7-FF0B4902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D7AA5-C89F-4844-9AEB-4D926331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4FC8E-8C5B-4C05-B8C0-AEE1117B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D7D7A-9881-4CE5-B676-CFDFBFE9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22952-C45F-499A-9CA2-8730697A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D785-6F5C-4FC6-96D3-037D9D8F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9AA07-8DC6-4612-8067-B21A31EC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F2DA7-4355-4BEF-A4FD-862B9E21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3800D-FF71-4697-84F3-E586478D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81E49-43BA-4748-8B3C-F4E888D8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BEDC0-9307-45A9-8EA3-14C4A2D0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A0B6-39F0-44CA-9FCE-5866025B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F136-267A-4F5A-8938-96A979E061D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1B5F-1FB9-473B-BBCF-E8D65392333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03AF-EFA2-4BED-85BE-3B980FDF74A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4AF0-E095-4E92-B882-5F5F20267E3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5FD4-EB38-4F70-81C6-605F1BC396C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CAEF-931D-4A5B-A736-9270381BEE2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6A53-3A5C-430D-9709-710B53CDE44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03120" y="1676160"/>
            <a:ext cx="740700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МИОФАСЦИЈАЛНИ БОЛ</a:t>
            </a:r>
            <a:r>
              <a:rPr b="0" lang="sr-Latn-RS" sz="3900" spc="-1" strike="noStrike">
                <a:solidFill>
                  <a:srgbClr val="572314"/>
                </a:solidFill>
                <a:latin typeface="Gill Sans MT"/>
              </a:rPr>
              <a:t> – </a:t>
            </a:r>
            <a:r>
              <a:rPr b="1" lang="sr-RS" sz="3900" spc="-1" strike="noStrike">
                <a:solidFill>
                  <a:srgbClr val="572314"/>
                </a:solidFill>
                <a:latin typeface="Corbel"/>
              </a:rPr>
              <a:t>дијагноза, диференцијална дијагноза и терапија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TextBox 6"/>
          <p:cNvSpPr/>
          <p:nvPr/>
        </p:nvSpPr>
        <p:spPr>
          <a:xfrm>
            <a:off x="1295280" y="3581280"/>
            <a:ext cx="70866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ahoma"/>
              </a:rPr>
              <a:t>ОРОФАЦИЈАЛНИ БО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Предавање бр.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sr-Latn-C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ahoma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Tahoma"/>
              </a:rPr>
              <a:t> 0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Тематске јединице: </a:t>
            </a:r>
            <a:r>
              <a:rPr b="1" lang="sr-Latn-C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ahoma"/>
              </a:rPr>
              <a:t>Дијагноза, диференцијална дијагноз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Терапија миофасцијалног бол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1447920" y="54100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72319"/>
                </a:solidFill>
                <a:latin typeface="Tahoma"/>
              </a:rPr>
              <a:t>Доц др Слободан Лончаревић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Box 8"/>
          <p:cNvSpPr/>
          <p:nvPr/>
        </p:nvSpPr>
        <p:spPr>
          <a:xfrm>
            <a:off x="1625760" y="228600"/>
            <a:ext cx="55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ФАКУЛТЕТ МЕДИЦИНСКИХ НАУ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УНИВЕРЗИТЕТ У КРАГУЈЕВЦ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2" name="Picture 13" descr="memo grb copy"/>
          <p:cNvPicPr/>
          <p:nvPr/>
        </p:nvPicPr>
        <p:blipFill>
          <a:blip r:embed="rId1"/>
          <a:srcRect l="47095" t="0" r="41659" b="0"/>
          <a:stretch/>
        </p:blipFill>
        <p:spPr>
          <a:xfrm>
            <a:off x="762120" y="457200"/>
            <a:ext cx="653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А КОНТРАКЦИЈА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140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 након постав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неадекватне протетске надокнад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лузалне неправилности,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чаног емоционалног стреса или било ко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угог узрока који доводи до бол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 с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љав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о мишићна слабост што је уједно и  кључни дијагностички знак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чно је да нема бола док мишић мирује, али његовом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шћу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лази до бола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 често има ограничено отварање уста, али када полако отвара уста може их отворити до краја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А КОНТРАКЦИЈА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66320" y="1447560"/>
            <a:ext cx="786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а контракција је нормалан одговор средишњег нервног система и не треба њу лечити него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лечити њен узрок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ед неправилности у оклузији долази до замора мишића, неправилних кретњи и истезања мишићне фасције. Ово за последицу има накупљање киселих метаболита и медијатора запаљењ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 је заштитна контракција настала услед нових круница или испуна тада се лечење темељи на њиховом прилагођавању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узрок озледа ткива тада се болеснику саветује да ограничи покрете мандибуле до кад не почиње бол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цима се препоручају исхрана меком храном и нестероидни антиинфламаторни аналгетици  као и вежбе мишића и други начини физикалне терапије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 престаје за пар дан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И МИШИЋНИ БОЛ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9144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љ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продужене контракције, локалне трауме или претеране употребе мишић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је независна од почетног извора бол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пр. медијални птеригоидни мишић је повређе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давања мандибуларне спроводне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ова траума доводи до мишићног бол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 затим доводи до контракције и започиње циклус мишићног бол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а осетљивост је продужена и након репарације ткива услед инфаламације и деловања медијатора запаљења, али и периферне сензитизације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И МИШИЋНИ БО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66320" y="1218960"/>
            <a:ext cx="786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и мишићни бол се клинички манифестује као бол мишића приликом палпације заједно са повећањем интензитета бола у њиховој функцији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у захваћени подизачи мандибуле ограничено је отварање уст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злику од заштитне контракц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 мишићу долази до запаљењске реакциј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олесник не може лако отворити уста и изражена је слабост мишића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И МИШИЋНИ БОЛ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9144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но је елиминисати узрок дубоког бола (дентални или неки други), саветовати болесника о ограничењу мандибуларних покрета унутар безболних границ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а исхрана са мањим загрижајима и полаганијим жвакањем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а такође треба упозорити на повезаност између емотивног стреса и мишићног стања те му препоручити технике релаксације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клиничар сумња на бруксизам или ноћно стискање зуба (бол рано ујутро) треба направити оклузални сплинт која прекрива зубе у једном луку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линт се носи по ноћи  и испитивања показују да је делимична употреба  боља него стална употреба (тј. и по дану и по ноћи)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И МИШИЋНИ БО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83808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бол и даље траје дају се нестероидни  аналгетици (ибупрофен), сваких 4-6 сати током 5-7 дан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уалне технике физикалне терапије као што је пасивно растезање мишића и лагана масажа могу бити од помоћи, а каткад и мишићни релаксанси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и мишићни бол престаје с терапијом након 1-3 недеље и уколико не престане, клиничар мора помислити на то да је погрешна дијагностика стањ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СПАЗАМ (ТОНИЧКА КОНТРАКЦИЈСКА МИЈАЛГИЈА</a:t>
            </a:r>
            <a:r>
              <a:rPr b="0" lang="hr-HR" sz="3200" spc="-1" strike="noStrike">
                <a:solidFill>
                  <a:srgbClr val="572314"/>
                </a:solidFill>
                <a:latin typeface="Gill Sans MT"/>
              </a:rPr>
              <a:t>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9144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спазам је тоничка мишићна контракција која је ретко стање непознате етиологије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ћи да је мишић контрахиран долази до значајних промена у положају вилица и акутне малоклузије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чно је да су мишићи на палпацију изразито тврди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настане миоспазам доњег латералног птеригоидног мишића настаје акутна малоклузија, а манифестује се као непостојање оклузије на задњим зубима исте стране и прерана оклузија предњих зуба на другој страни.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СПАЗАМ (ТОНИЧКА КОНТРАКЦИЈСКА МИЈАЛГИЈА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90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 у мишићу настаје функцијском манипулацијом; бол се појачава максималном интеркуспидацијом (растезањем мишића) и протрузијом насупрот отпору (контракција мишића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и а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етич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блок мишића одмах зауставља бол и клинички је показатељ извора бол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СПАЗАМ (ТОНИЧКА КОНТРАКЦИЈСКА МИЈАЛГИЈА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144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део лечења се односи на смањење самог спазма, а други на узрок спазм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спазми се најбоље лече смањењем бола и затим пасивним продужавањем или растезањем захваћеног мишића мануелном масажом, спрејем за хлађење, ледом или ињекцијама локалног анестетика у мишић (2% лидокаин без вазоконстриктора). Једном када се смањи бол, мишић се пасивно растеже до крај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у присутни очигледни узрочни фактори тада их треба покушати елиминисати. Ако је миоспазам последица замора или претеране употребе болеснику се саветује да одмара мишић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СПАЗАМ (ТОНИЧКА КОНТРАКЦИЈСКА МИЈАЛГИЈ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143000" y="14475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мено се миоспазми могу појављивати без јасног етиолошког фактора, тада се могу давати ињекције токсина ботулинума А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x) које доводе до парализе мишића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x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иње деловати након 1-2 недеље, а након 3-4 месеца његов учинак престаје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ећини случајева је од користи физикална терапија у виду дубоке масаже или пасивног растезања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2590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МИОФАСЦИЈАЛНИ БОЛ</a:t>
            </a:r>
            <a:r>
              <a:rPr b="0" lang="sr-Latn-RS" sz="3900" spc="-1" strike="noStrike">
                <a:solidFill>
                  <a:srgbClr val="572314"/>
                </a:solidFill>
                <a:latin typeface="Gill Sans MT"/>
              </a:rPr>
              <a:t> – </a:t>
            </a:r>
            <a:r>
              <a:rPr b="1" lang="sr-RS" sz="3900" spc="-1" strike="noStrike">
                <a:solidFill>
                  <a:srgbClr val="572314"/>
                </a:solidFill>
                <a:latin typeface="Corbel"/>
              </a:rPr>
              <a:t>дијагноза, диференцијална дијагноза и терапија</a:t>
            </a:r>
            <a:r>
              <a:rPr b="1" lang="sr-Latn-RS" sz="3900" spc="-1" strike="noStrike">
                <a:solidFill>
                  <a:srgbClr val="572314"/>
                </a:solidFill>
                <a:latin typeface="Gill Sans MT"/>
              </a:rPr>
              <a:t> (</a:t>
            </a:r>
            <a:r>
              <a:rPr b="1" lang="sr-RS" sz="3900" spc="-1" strike="noStrike">
                <a:solidFill>
                  <a:srgbClr val="572314"/>
                </a:solidFill>
                <a:latin typeface="Corbel"/>
              </a:rPr>
              <a:t>литература)</a:t>
            </a:r>
            <a:br>
              <a:rPr sz="3900"/>
            </a:br>
            <a:br>
              <a:rPr sz="3900"/>
            </a:br>
            <a:r>
              <a:rPr b="1" lang="sr-RS" sz="3600" spc="-1" strike="noStrike">
                <a:solidFill>
                  <a:srgbClr val="572314"/>
                </a:solidFill>
                <a:latin typeface="Corbel"/>
              </a:rPr>
              <a:t>- </a:t>
            </a: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атофизиолошки аспекти орофацијалног бола, Мишићно фасцијални болни синдроми (89-98)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НА “ЗУБОБОЉА”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380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 који се манифестује као спонтана зубобоља (рефлектовани бол) или бол зуба (секундарна хипералгезија) може настати као последица миофасцијалних тригер тачака у орофацијалним структурам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гер тачке 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 temporalis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гу узроковати бол који се осећа као зубобоља у максиларним зубим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гер тачка површинског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 masseter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 дати бол који се осећа у максиларним или мандибуларним задњим зубим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гер тачка предњег дигастричног мишића се одражава на предње зубе у мандибули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ови се од праве зубобоље разликују по томе што нема одговрајућег локалног зубног узрока и бол не престаје аналгетском блокадом зуб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НА “ГЛАВОБОЉА”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 који се шири из фронталног дела окципитално-фронталних мишића се осећа као фронтална главобоља, док се она из окципиталног подручја осећа као бол иза ока и са стране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товани  бол из стерналног дела стерноклеидомастоидног мишића се осећа дифузно у лицу и глави, бол из клавикуларног дела истог мишића се осећа иза уха и као главобоља фронталног дел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њи трапезијус рефлектује бол који се осећа иза уха и као главобоља у слепоочницама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 splenius capitis, m. cervicis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и задњи цервикални и субокципитални мишићи такође могу довести до главобоље тензионог тип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 при жвакању“ који прати „главобоља“ и који се може „мануелно палпирати“ може бити криво дијагностикован као мастикаторна болест. Ипак, оне се лако разликују: нема мастикаторне дисфункције и бол не престаје аналгетским блокадом места бол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990360" y="99072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 мијалгије тригер тачке се темељи на смањењу локалних и системских фактора који доприносе миофасцијалн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сумња на поремећај сна, болесника треба упутити психијатру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тразвук  (ствара топл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у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дубини тригер т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ке што доводи до релаксације мишића) и електрогалванска стимулација (доводи до замора мишића и пос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чно до релаксације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 се користи и у безболној фази најмање шест месец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 мултидисциплинарна – физијатри, стоматолози,орални хирурзи,психијатри, неуролоз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7010280" y="5638680"/>
            <a:ext cx="130500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1"/>
          <p:cNvSpPr/>
          <p:nvPr/>
        </p:nvSpPr>
        <p:spPr>
          <a:xfrm>
            <a:off x="76320" y="152280"/>
            <a:ext cx="906768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Питањ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. недељ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Који су принципи дијагностике миофасцијалног бол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Који су принципи клиничког испитивања мастикаторних  мишић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У чему се огледа значај примене локалне анестезије у дијагностици миофасцијаног бол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Које су разлике између миофасцијаног бола и заштитне мишићне контракциј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Које су разлике између миофасцијаног бола и миоспазм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Које су разлике између миофасцијаног бола и локалног мишићног бол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Које су разлике између миофасцијаног бола и мишићне зубобољ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Који су принципи терапије миофасцијалног бол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Навести карактеристике заштитне мишићне контракциј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Навести карактеристике миоспаз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Навести карактеристике локалног мишићног бо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Навести карактеристике мишићне зубобољ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ДИЈАГНОСТИКА МИОФАСЦИЈАЛНОГ БОЛ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ИСКЉУЧИТИ ОРГАНСКА ОБОЉЕЊ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АНАМНЕСТИЧКИ ПОДАЦ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ЕТ И ФРЕКВЕНЦИЈА БОЛ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ЊЕ ТУМОР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А ОБОЉЕЊА ПЉУВАЧНИХ ЖЛЕЗД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НДИЛОЗА КИЧМЕНОГ СТУБ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 ЗУБ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КЛИНИЧКИ ПРЕГЛЕД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ПАЦИЈА – ТРИГЕР ТАЧКЕ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ОРАЛНИ ПРЕГЛЕД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ПАЦИЈЕНТА - ПАТЊА, БЕЗВОЉНОСТ, ЗАБРИНУТОС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ПРИМЕНА ЛОКАЛНОГ АНЕСТЕТИК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72314"/>
                </a:solidFill>
                <a:latin typeface="Gill Sans MT"/>
              </a:rPr>
              <a:t>ДИЈАГНОСТИКА МИОФАСЦИЈАЛНОГ БОЛА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МИШИЋ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ормалној функцији и палпацији здравог мишића нема болова. Насупрот томе, чест знак компромитиране функције мишића је бол, а он настаје претераном употребом или траумом мишића као нпр. након претераног растезања мишића или након ударца у мишић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се повећавају број и трајање контракција појачава се мишићни тонус или хиперактивност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ј механизам може смањити доток крви 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у ткива док се у исто време накупљају отпадни метаболички производи што доводи до бо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болесник за време палпације специфичног мишића наводи н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го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т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ј мишић је узрок бо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и се палпирају  прстима, тако да се једном чврсто притисне у трајању од 1-2 секунде</a:t>
            </a: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ДИЈАГНОСТИКА МИОФАСЦИЈАЛНОГ БОЛ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ill Sans MT"/>
              </a:rPr>
              <a:t>Када се палпира мишић, болесников одговор се може сместити унутар 4 категорије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lang="hr-HR" sz="2400" spc="-1" strike="noStrike">
                <a:solidFill>
                  <a:srgbClr val="000000"/>
                </a:solidFill>
                <a:latin typeface="Gill Sans MT"/>
              </a:rPr>
              <a:t>0-нема бол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а</a:t>
            </a:r>
            <a:r>
              <a:rPr b="1" lang="hr-HR" sz="2400" spc="-1" strike="noStrike">
                <a:solidFill>
                  <a:srgbClr val="000000"/>
                </a:solidFill>
                <a:latin typeface="Gill Sans MT"/>
              </a:rPr>
              <a:t> или осетљивости;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lang="hr-HR" sz="2400" spc="-1" strike="noStrike">
                <a:solidFill>
                  <a:srgbClr val="000000"/>
                </a:solidFill>
                <a:latin typeface="Gill Sans MT"/>
              </a:rPr>
              <a:t>1-палпација је неугодна (осетљивост или    болност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sr-Latn-RS" sz="24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lang="hr-HR" sz="2400" spc="-1" strike="noStrike">
                <a:solidFill>
                  <a:srgbClr val="000000"/>
                </a:solidFill>
                <a:latin typeface="Gill Sans MT"/>
              </a:rPr>
              <a:t>2-болесник има дефинитивну неугоду или бол;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lang="hr-HR" sz="2400" spc="-1" strike="noStrike">
                <a:solidFill>
                  <a:srgbClr val="000000"/>
                </a:solidFill>
                <a:latin typeface="Gill Sans MT"/>
              </a:rPr>
              <a:t>3-болесник има јаку реакцију  или сузење ока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ill Sans MT"/>
              </a:rPr>
              <a:t>Рутински се треба направити испитивање орофацијалних мишића и испитују се темпоралис, масетер, стерноклеидомастоидни и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задњи</a:t>
            </a:r>
            <a:r>
              <a:rPr b="1" lang="hr-HR" sz="2400" spc="-1" strike="noStrike">
                <a:solidFill>
                  <a:srgbClr val="000000"/>
                </a:solidFill>
                <a:latin typeface="Gill Sans MT"/>
              </a:rPr>
              <a:t> цервикални (splenijus capitis i trapezius) мишић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СТИКА МИОФАСЦИЈАЛНОГ БОЛ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838080" y="1523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њекције локалног анестетика 2% лидокаина без вазоконтриктора како би се мишић растегнуо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и анестетик се користи како б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мин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 и омогућила безболност приликом растезања мишића, али 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стич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сврхе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њекција локалног анестетика у тригер тачку на стерноклеидомастоидном мишићу одмах елиминише рефлектовану главобољу у слепоочниц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1295280" y="3962520"/>
            <a:ext cx="2971800" cy="26478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"/>
          <p:cNvPicPr/>
          <p:nvPr/>
        </p:nvPicPr>
        <p:blipFill>
          <a:blip r:embed="rId2"/>
          <a:stretch/>
        </p:blipFill>
        <p:spPr>
          <a:xfrm>
            <a:off x="4572000" y="3962520"/>
            <a:ext cx="403848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СТИКА МИОФАСЦИЈАЛНОГ БОЛ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144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гер 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ка се локали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вљањем прста преко мишића и чврсто се притисне како би се локали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о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врди 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унутар ткива мишића (тригер)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м када се идентиф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је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ст се помиче горе и доле како би се локали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ло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јболније подручје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е локализиран тригер, ткиво преко тригер 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ке се очисти с алкохолом. Затим се тригер 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ка ухвати са два прста како касније 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сирањем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гле не би дошло д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рања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игер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х игле се инсерира у површинско ткиво изнад тригер 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ке и затим се пенетрира у његову дубину. Обично сам болесник одмах може рећи да ли смо дошли до тригер 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ке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м кад је врх игле у дубини на правом месту, аспирирамо и ако нисмо у крвн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у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ко ¼ карпуле се ињицира у то подручје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СТИКА МИОФАСЦИЈАЛНОГ БОЛА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66320" y="15235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 је апл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н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нестетик, иг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извлачи до пола, мења се смер и опет се улази у тригер. Врх игле се не вади из ткив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ј поступак се понавља неколико пута, посебно ако болесник наводи да врх игле није био у подручју изрази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сваком месту се аспирира и депо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мала количина анестетик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ад ће мишић одмах реа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 и то се зове „трзајни одговор“ и помаже јер даје информацију да је игла добро постављен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 поступак заврши игла се извлачи и стерилна газа се држи на месту анестезије с благим притиском 20-30 секунди како би се постигла добра хемостаз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ИЈАЛНА ДИЈАГНОСТИКА МИОФАСЦИЈАЛНОГ БОЛА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А КОНТРАКЦИЈ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И МИШИЋНИ БОЛ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СПАЗАМ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ЈАЛГИЈА И ФИБРОМИЈАЛГИЈ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7:47:21Z</dcterms:created>
  <dc:creator>muti</dc:creator>
  <dc:description/>
  <dc:language>en-US</dc:language>
  <cp:lastModifiedBy>Miki</cp:lastModifiedBy>
  <dcterms:modified xsi:type="dcterms:W3CDTF">2015-06-15T08:41:0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